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FC9E-6B71-4955-9AFF-A8D7759BC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00748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-360" y="3895920"/>
            <a:ext cx="800748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6543B-F044-4F1F-A1BD-4F2F6BEFC9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292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-360" y="389592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02920" y="389592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FBB59-07B1-49F1-BB04-11C0BFA5F0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07200" y="99036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414760" y="99036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-360" y="389592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07200" y="389592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414760" y="389592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2419B-14EE-4FEB-A120-30205193C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9903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074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02920" y="990360"/>
            <a:ext cx="39074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0074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02920" y="990360"/>
            <a:ext cx="39074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389592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-360" y="9903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99A2A-94D2-40C6-A36E-84F3C96482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074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10292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102920" y="389592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10292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3895920"/>
            <a:ext cx="800748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00748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3895920"/>
            <a:ext cx="800748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292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389592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102920" y="389592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07200" y="99036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414760" y="99036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389592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707200" y="389592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414760" y="3895920"/>
            <a:ext cx="25783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DE9F7-C5ED-4F49-91DC-00D3146497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074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102920" y="990360"/>
            <a:ext cx="39074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DDDC6-D3EF-47E2-8E2C-66EF01AF9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439C6-23D1-474E-9401-C6A8DC3E00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0074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14751-2794-47D7-98A6-5DBF55284B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102920" y="990360"/>
            <a:ext cx="39074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-360" y="389592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0ADE0-41B2-4100-A49C-2DD6ACCFCF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074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10292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02920" y="389592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C5306-4C29-4156-81AD-7EACFEF120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02920" y="990360"/>
            <a:ext cx="39074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-360" y="3895920"/>
            <a:ext cx="800748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1DFCE-774F-4A31-8D1D-37AE527B4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go-sw-red" descr=""/>
          <p:cNvPicPr/>
          <p:nvPr/>
        </p:nvPicPr>
        <p:blipFill>
          <a:blip r:embed="rId3"/>
          <a:stretch/>
        </p:blipFill>
        <p:spPr>
          <a:xfrm>
            <a:off x="8007480" y="0"/>
            <a:ext cx="1898640" cy="992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-360" y="9903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499"/>
              </a:spcBef>
              <a:buClr>
                <a:srgbClr val="002b5d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76520" indent="-239760">
              <a:spcBef>
                <a:spcPts val="499"/>
              </a:spcBef>
              <a:buClr>
                <a:srgbClr val="002b5d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499"/>
              </a:spcBef>
              <a:buClr>
                <a:srgbClr val="002b5d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065400" y="2693880"/>
            <a:ext cx="4464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04760" y="1996920"/>
            <a:ext cx="974412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022640" y="3038400"/>
            <a:ext cx="16131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t">
            <a:spAutoFit/>
          </a:bodyPr>
          <a:p>
            <a:pPr algn="ct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-360" y="6552720"/>
            <a:ext cx="800748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4622760" y="6552720"/>
            <a:ext cx="907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897A1D0-DD78-4117-8240-C42558C53E9B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585280" y="6553080"/>
            <a:ext cx="1320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3600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 Siemens,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2819520"/>
            <a:ext cx="61084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logo%20sw%20red_m" descr=""/>
          <p:cNvPicPr/>
          <p:nvPr/>
        </p:nvPicPr>
        <p:blipFill>
          <a:blip r:embed="rId3"/>
          <a:stretch/>
        </p:blipFill>
        <p:spPr>
          <a:xfrm>
            <a:off x="6129360" y="1143000"/>
            <a:ext cx="3467160" cy="990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ctr">
              <a:lnSpc>
                <a:spcPts val="2200"/>
              </a:lnSpc>
              <a:spcAft>
                <a:spcPts val="400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4284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•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3" marL="1371600" indent="6516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–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4" marL="1828800" indent="8748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1828800" indent="874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1828800" indent="874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2819520"/>
            <a:ext cx="61084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ew Return Rate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ar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s of failure typ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04920" y="1143000"/>
          <a:ext cx="7543800" cy="5167440"/>
        </p:xfrm>
        <a:graphic>
          <a:graphicData uri="http://schemas.openxmlformats.org/drawingml/2006/table">
            <a:tbl>
              <a:tblPr/>
              <a:tblGrid>
                <a:gridCol w="3771720"/>
                <a:gridCol w="3772080"/>
              </a:tblGrid>
              <a:tr h="557280">
                <a:tc>
                  <a:txBody>
                    <a:bodyPr lIns="0" rIns="90000" tIns="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lure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BF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ect solder p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800"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/ conceptual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fficient dust protection of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eypad (S4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radic switch-of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800"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ier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rrs in C55-keypad (metal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om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800"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F connector not closed,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ssing user gu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er caused dismi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maged by liqu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 failure (e.g. networ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RS, PBC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800"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F and Nd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90000" tIns="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57240"/>
                          <a:tab algn="l" pos="1914480"/>
                          <a:tab algn="l" pos="2871720"/>
                          <a:tab algn="l" pos="3828960"/>
                          <a:tab algn="l" pos="4786200"/>
                          <a:tab algn="l" pos="5743440"/>
                          <a:tab algn="l" pos="6700680"/>
                          <a:tab algn="l" pos="7658280"/>
                          <a:tab algn="l" pos="8615520"/>
                          <a:tab algn="l" pos="9572760"/>
                          <a:tab algn="l" pos="105300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ing customer acceptance,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poradic fail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791320" y="65160"/>
          <a:ext cx="213336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65160"/>
                    <a:ext cx="2133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8077320" y="1066680"/>
            <a:ext cx="167616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Explanation “Stretch go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Determination of budget and stretch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Current</a:t>
            </a:r>
            <a:br>
              <a:rPr sz="1800"/>
            </a:b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Gener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Failur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Return Rate Targets - CCQ QM PL P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809EE-C137-426B-A843-2220CF1E9E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: Feedback from other products (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04920" y="1447920"/>
            <a:ext cx="7695720" cy="4112280"/>
            <a:chOff x="304920" y="1447920"/>
            <a:chExt cx="7695720" cy="4112280"/>
          </a:xfrm>
        </p:grpSpPr>
        <p:pic>
          <p:nvPicPr>
            <p:cNvPr id="255" name="" descr=""/>
            <p:cNvPicPr/>
            <p:nvPr/>
          </p:nvPicPr>
          <p:blipFill>
            <a:blip r:embed="rId2"/>
            <a:stretch/>
          </p:blipFill>
          <p:spPr>
            <a:xfrm>
              <a:off x="5765760" y="2353320"/>
              <a:ext cx="2234880" cy="304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"/>
            <p:cNvGrpSpPr/>
            <p:nvPr/>
          </p:nvGrpSpPr>
          <p:grpSpPr>
            <a:xfrm>
              <a:off x="304920" y="1447920"/>
              <a:ext cx="7347240" cy="4112280"/>
              <a:chOff x="304920" y="1447920"/>
              <a:chExt cx="7347240" cy="4112280"/>
            </a:xfrm>
          </p:grpSpPr>
          <p:sp>
            <p:nvSpPr>
              <p:cNvPr id="257" name=""/>
              <p:cNvSpPr/>
              <p:nvPr/>
            </p:nvSpPr>
            <p:spPr>
              <a:xfrm>
                <a:off x="330840" y="1467360"/>
                <a:ext cx="753480" cy="582840"/>
              </a:xfrm>
              <a:prstGeom prst="rect">
                <a:avLst/>
              </a:pr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99ccff"/>
                    </a:solidFill>
                    <a:latin typeface="Arial"/>
                  </a:rPr>
                  <a:t>Segmen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07880" y="2471040"/>
                <a:ext cx="965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Summe MP Klf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640" y="3756240"/>
                <a:ext cx="75888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U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94640" y="4856400"/>
                <a:ext cx="75888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V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292400" y="1467360"/>
                <a:ext cx="2067120" cy="582840"/>
              </a:xfrm>
              <a:prstGeom prst="rect">
                <a:avLst/>
              </a:pr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99ccff"/>
                    </a:solidFill>
                    <a:latin typeface="Arial"/>
                  </a:rPr>
                  <a:t>Produced units</a:t>
                </a:r>
                <a:br>
                  <a:rPr sz="1200"/>
                </a:br>
                <a:r>
                  <a:rPr b="1" lang="de-DE" sz="1200" spc="-1" strike="noStrike">
                    <a:solidFill>
                      <a:srgbClr val="99ccff"/>
                    </a:solidFill>
                    <a:latin typeface="Arial"/>
                  </a:rPr>
                  <a:t>german marke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35560" y="1467360"/>
                <a:ext cx="1987920" cy="582840"/>
              </a:xfrm>
              <a:prstGeom prst="rect">
                <a:avLst/>
              </a:pr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99ccff"/>
                    </a:solidFill>
                    <a:latin typeface="Arial"/>
                  </a:rPr>
                  <a:t>Actu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99ccff"/>
                    </a:solidFill>
                    <a:latin typeface="Arial"/>
                  </a:rPr>
                  <a:t>Return Rate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99ccff"/>
                    </a:solidFill>
                    <a:latin typeface="Arial"/>
                  </a:rPr>
                  <a:t>(annualize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20400" y="1467360"/>
                <a:ext cx="1931760" cy="582840"/>
              </a:xfrm>
              <a:prstGeom prst="rect">
                <a:avLst/>
              </a:prstGeom>
              <a:solidFill>
                <a:srgbClr val="66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99ccff"/>
                    </a:solidFill>
                    <a:latin typeface="Arial"/>
                  </a:rPr>
                  <a:t>Product live cycle</a:t>
                </a:r>
                <a:br>
                  <a:rPr sz="1200"/>
                </a:br>
                <a:r>
                  <a:rPr b="1" lang="de-DE" sz="1200" spc="-1" strike="noStrike">
                    <a:solidFill>
                      <a:srgbClr val="99ccff"/>
                    </a:solidFill>
                    <a:latin typeface="Arial"/>
                  </a:rPr>
                  <a:t> avera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04920" y="1447920"/>
                <a:ext cx="7342560" cy="4112280"/>
              </a:xfrm>
              <a:prstGeom prst="rect">
                <a:avLst/>
              </a:prstGeom>
              <a:noFill/>
              <a:ln w="38160">
                <a:solidFill>
                  <a:srgbClr val="3a73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3583440" y="2361600"/>
                <a:ext cx="6120" cy="308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1276200" y="2374560"/>
                <a:ext cx="6480" cy="307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3560" y="2367720"/>
                <a:ext cx="2052720" cy="30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1893600" y="2705400"/>
                <a:ext cx="863640" cy="25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9.471.98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764360" y="3785760"/>
                <a:ext cx="837720" cy="18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8.543.61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439280" y="4872600"/>
                <a:ext cx="695880" cy="18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898.37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521160" y="2381040"/>
                <a:ext cx="2294280" cy="306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2" name=""/>
              <p:cNvSpPr/>
              <p:nvPr/>
            </p:nvSpPr>
            <p:spPr>
              <a:xfrm>
                <a:off x="4268520" y="3782160"/>
                <a:ext cx="695880" cy="18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4,18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62600" y="4879440"/>
                <a:ext cx="695880" cy="18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3,19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30280" y="2705400"/>
                <a:ext cx="695880" cy="18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4,05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5865480" y="2361600"/>
                <a:ext cx="6480" cy="308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514920" y="3779280"/>
                <a:ext cx="69588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7,97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951160" y="4905720"/>
                <a:ext cx="69588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4,30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563160" y="2688840"/>
                <a:ext cx="695880" cy="18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7,49%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"/>
          <p:cNvSpPr/>
          <p:nvPr/>
        </p:nvSpPr>
        <p:spPr>
          <a:xfrm>
            <a:off x="8077320" y="1066680"/>
            <a:ext cx="167616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Explanation “Stretch go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Determination of budget and stretch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Current</a:t>
            </a:r>
            <a:br>
              <a:rPr sz="1800"/>
            </a:b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Gener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Failur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Return Rate Targets - CCQ QM PL P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AEE15-8673-43D6-B1D9-235F91B055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: Feedback from other products (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152280" y="1079640"/>
            <a:ext cx="7620120" cy="52956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8077320" y="1066680"/>
            <a:ext cx="167616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Explanation “Stretch go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Determination of budget and stretch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Current</a:t>
            </a:r>
            <a:br>
              <a:rPr sz="1800"/>
            </a:b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Gener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Failur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Return Rate Targets - CCQ QM PL P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DBD68-DF90-4D08-ADC8-4676B92014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: Example K1 MTB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57200" y="1371600"/>
          <a:ext cx="7238880" cy="4619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371600"/>
                    <a:ext cx="723888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8077320" y="1066680"/>
            <a:ext cx="167616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Explanation “Stretch go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Determination of budget and stretch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Current</a:t>
            </a:r>
            <a:br>
              <a:rPr sz="1800"/>
            </a:b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Gener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Failur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Return Rate Targets - CCQ QM PL P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3C3C3-0635-4FDD-914B-7FEBF51BAC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turn r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1. Budget: Solid return rate value - prognosis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liable value (prognosis!) that must under no circumstances be excee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sed for Business Case and Service budget plan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2. Stretch goal for REA team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ugh target, but achiev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rgets must be unambiguous and verifi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00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EM / ODM: separate considerations, see separate pres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791320" y="50760"/>
          <a:ext cx="2133360" cy="89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50760"/>
                    <a:ext cx="213336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8077320" y="1066680"/>
            <a:ext cx="167616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Explanation “Stretch go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Determination of budget and stretch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Current</a:t>
            </a:r>
            <a:br>
              <a:rPr sz="1800"/>
            </a:b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Gener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Failur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Return Rate Targets - CCQ QM PL P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458BB-6A43-4A03-8AF6-FA58DC65C9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planation “Stretch goal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tch goals for REA teams in product evolutio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1640" y="4038480"/>
            <a:ext cx="330480" cy="2133720"/>
          </a:xfrm>
          <a:prstGeom prst="cube">
            <a:avLst>
              <a:gd name="adj" fmla="val 25000"/>
            </a:avLst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4114800"/>
            <a:ext cx="304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581280"/>
            <a:ext cx="330120" cy="533520"/>
          </a:xfrm>
          <a:prstGeom prst="cube">
            <a:avLst>
              <a:gd name="adj" fmla="val 25000"/>
            </a:avLst>
          </a:prstGeom>
          <a:solidFill>
            <a:srgbClr val="ff8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4533840"/>
            <a:ext cx="95868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omplexity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increase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HW/S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861840" y="228564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6172200"/>
            <a:ext cx="7696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801800"/>
            <a:ext cx="9446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eturn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320" y="6262560"/>
            <a:ext cx="9903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Project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6248520"/>
            <a:ext cx="25905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Successor of Project 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51160" y="2819520"/>
            <a:ext cx="330120" cy="990360"/>
          </a:xfrm>
          <a:prstGeom prst="cube">
            <a:avLst>
              <a:gd name="adj" fmla="val 25000"/>
            </a:avLst>
          </a:prstGeom>
          <a:solidFill>
            <a:srgbClr val="dff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380988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3733920"/>
            <a:ext cx="330480" cy="380880"/>
          </a:xfrm>
          <a:prstGeom prst="cube">
            <a:avLst>
              <a:gd name="adj" fmla="val 25000"/>
            </a:avLst>
          </a:prstGeom>
          <a:solidFill>
            <a:srgbClr val="dff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657600"/>
            <a:ext cx="10670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SW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3352680"/>
            <a:ext cx="13716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Lessons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lear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114800"/>
            <a:ext cx="5335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4038480"/>
            <a:ext cx="330120" cy="381240"/>
          </a:xfrm>
          <a:prstGeom prst="cube">
            <a:avLst>
              <a:gd name="adj" fmla="val 25000"/>
            </a:avLst>
          </a:prstGeom>
          <a:solidFill>
            <a:srgbClr val="dff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190476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Design for Six Sigma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(Extensive FMEAs,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Material Qualification,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Process Qualific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029200" y="4417560"/>
            <a:ext cx="533520" cy="1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5000" bIns="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4341960"/>
            <a:ext cx="330120" cy="380880"/>
          </a:xfrm>
          <a:prstGeom prst="cube">
            <a:avLst>
              <a:gd name="adj" fmla="val 25000"/>
            </a:avLst>
          </a:prstGeom>
          <a:solidFill>
            <a:srgbClr val="dff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3962520"/>
            <a:ext cx="13716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Pre-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4648320"/>
            <a:ext cx="330120" cy="1523880"/>
          </a:xfrm>
          <a:prstGeom prst="cube">
            <a:avLst>
              <a:gd name="adj" fmla="val 25000"/>
            </a:avLst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472428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4432320"/>
            <a:ext cx="330120" cy="304920"/>
          </a:xfrm>
          <a:prstGeom prst="cube">
            <a:avLst>
              <a:gd name="adj" fmla="val 25000"/>
            </a:avLst>
          </a:prstGeom>
          <a:solidFill>
            <a:srgbClr val="ff82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73724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4038480"/>
            <a:ext cx="13716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Risk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re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65360" y="2819520"/>
            <a:ext cx="330120" cy="469800"/>
          </a:xfrm>
          <a:prstGeom prst="cube">
            <a:avLst>
              <a:gd name="adj" fmla="val 25000"/>
            </a:avLst>
          </a:prstGeom>
          <a:solidFill>
            <a:srgbClr val="ff8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3352680"/>
            <a:ext cx="91440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Running changes during REA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1066320" y="415296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051440"/>
            <a:ext cx="330120" cy="457200"/>
          </a:xfrm>
          <a:prstGeom prst="cube">
            <a:avLst>
              <a:gd name="adj" fmla="val 25000"/>
            </a:avLst>
          </a:prstGeom>
          <a:solidFill>
            <a:srgbClr val="ff82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450864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3670200"/>
            <a:ext cx="13716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Unexpected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fail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72428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791320" y="50760"/>
          <a:ext cx="2133360" cy="89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50760"/>
                    <a:ext cx="213336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701720" y="3213000"/>
            <a:ext cx="330120" cy="457200"/>
          </a:xfrm>
          <a:prstGeom prst="cube">
            <a:avLst>
              <a:gd name="adj" fmla="val 25000"/>
            </a:avLst>
          </a:prstGeom>
          <a:solidFill>
            <a:srgbClr val="ff8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33440" y="3733920"/>
            <a:ext cx="11430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omplexity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increase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mater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39960" y="5791320"/>
            <a:ext cx="25146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End of Definition phase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Start of Realization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290844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5120" y="328932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3670200"/>
            <a:ext cx="609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429000" y="2552760"/>
            <a:ext cx="125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077320" y="1066680"/>
            <a:ext cx="167616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xplanation “Stretch go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Determination of budget and stretch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Current</a:t>
            </a:r>
            <a:br>
              <a:rPr sz="1800"/>
            </a:b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Gener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Failur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Return Rate Targets - CCQ QM PL P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18DA7-4C5C-4D4A-A35B-B6FAD838BD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8007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termination of budget and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retch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28456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2920" y="5791320"/>
            <a:ext cx="751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1371600"/>
            <a:ext cx="111132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eturn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4038480"/>
            <a:ext cx="330120" cy="1752840"/>
          </a:xfrm>
          <a:prstGeom prst="cube">
            <a:avLst>
              <a:gd name="adj" fmla="val 25000"/>
            </a:avLst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3581280"/>
            <a:ext cx="330120" cy="457200"/>
          </a:xfrm>
          <a:prstGeom prst="cube">
            <a:avLst>
              <a:gd name="adj" fmla="val 25000"/>
            </a:avLst>
          </a:prstGeom>
          <a:solidFill>
            <a:srgbClr val="ff82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4038480"/>
            <a:ext cx="228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971800"/>
            <a:ext cx="13716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isk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ele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2895480"/>
            <a:ext cx="330480" cy="762120"/>
          </a:xfrm>
          <a:prstGeom prst="cube">
            <a:avLst>
              <a:gd name="adj" fmla="val 25000"/>
            </a:avLst>
          </a:prstGeom>
          <a:solidFill>
            <a:srgbClr val="ff82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76520" y="36576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2057400"/>
            <a:ext cx="13716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Unexpected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fail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09680" y="2971800"/>
            <a:ext cx="5562720" cy="1066680"/>
          </a:xfrm>
          <a:custGeom>
            <a:avLst/>
            <a:gdLst/>
            <a:ahLst/>
            <a:rect l="l" t="t" r="r" b="b"/>
            <a:pathLst>
              <a:path w="3504" h="1056">
                <a:moveTo>
                  <a:pt x="0" y="0"/>
                </a:moveTo>
                <a:cubicBezTo>
                  <a:pt x="452" y="44"/>
                  <a:pt x="904" y="88"/>
                  <a:pt x="1248" y="240"/>
                </a:cubicBezTo>
                <a:cubicBezTo>
                  <a:pt x="1592" y="392"/>
                  <a:pt x="1688" y="776"/>
                  <a:pt x="2064" y="912"/>
                </a:cubicBezTo>
                <a:cubicBezTo>
                  <a:pt x="2440" y="1048"/>
                  <a:pt x="2972" y="1052"/>
                  <a:pt x="3504" y="105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16200000">
            <a:off x="5086440" y="3295080"/>
            <a:ext cx="228600" cy="5372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40040 h 5372280"/>
              <a:gd name="textAreaBottom" fmla="*/ 5232240 h 537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8480" y="6110280"/>
            <a:ext cx="24386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Approx. 24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218960" y="4038480"/>
            <a:ext cx="6553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705720" y="3184200"/>
            <a:ext cx="0" cy="12351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15080" y="4491000"/>
            <a:ext cx="18288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Stable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52960" y="4495680"/>
            <a:ext cx="18288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End of 1</a:t>
            </a:r>
            <a:r>
              <a:rPr b="1" lang="en-GB" sz="1600" spc="-1" strike="noStrike" baseline="30000">
                <a:solidFill>
                  <a:srgbClr val="002b5d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production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286000" y="2971440"/>
            <a:ext cx="0" cy="2057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2665440"/>
            <a:ext cx="21333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Budget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(mean value 1</a:t>
            </a:r>
            <a:r>
              <a:rPr b="1" lang="en-GB" sz="1600" spc="-1" strike="noStrike" baseline="30000">
                <a:solidFill>
                  <a:srgbClr val="002b5d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3200400"/>
            <a:ext cx="1439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5942160"/>
            <a:ext cx="243828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Product launch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(S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505320"/>
            <a:ext cx="13716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eturn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5791320" y="65160"/>
          <a:ext cx="213336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65160"/>
                    <a:ext cx="2133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1828800" y="23623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105520" y="3198600"/>
            <a:ext cx="0" cy="1220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42280" y="4038480"/>
            <a:ext cx="330120" cy="468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f9966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78680" y="4519440"/>
            <a:ext cx="1090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Stretch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go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70600" y="3367080"/>
            <a:ext cx="14526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(Project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hallenges/ -meas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066680"/>
            <a:ext cx="167616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Explanation “Stretch go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termination of budget and stretch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Current</a:t>
            </a:r>
            <a:br>
              <a:rPr sz="1800"/>
            </a:b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Gener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Failur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Return Rate Targets - CCQ QM PL P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FE2FB-6B6D-46EA-AC93-832C6DA484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view: Current return ra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791320" y="65160"/>
          <a:ext cx="213336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65160"/>
                    <a:ext cx="2133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09480" y="1106640"/>
          <a:ext cx="6400800" cy="53323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1106640"/>
                    <a:ext cx="640080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8077320" y="1066680"/>
            <a:ext cx="167616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Explanation “Stretch go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Determination of budget and stretch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urrent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Gener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Failur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Return Rate Targets - CCQ QM PL P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39DF2-FBAE-4BFB-A36D-95E188A108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turn rate improv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retch goal for REA tea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ery important: Reliable value for Business Cas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 Service budget planning must be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2209680"/>
            <a:ext cx="3049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V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" y="3352680"/>
            <a:ext cx="3049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U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4495680"/>
            <a:ext cx="304920" cy="990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3</a:t>
            </a:r>
            <a:br>
              <a:rPr sz="1600"/>
            </a:b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1752480"/>
            <a:ext cx="1143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FY 2003/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1752480"/>
            <a:ext cx="1143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FY 2004/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419720" y="1752480"/>
            <a:ext cx="1143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FY 2005/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91320" y="1752480"/>
            <a:ext cx="11430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2b5d"/>
                </a:solidFill>
                <a:latin typeface="Symbol"/>
                <a:ea typeface="Symbol"/>
              </a:rPr>
              <a:t>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14400" y="335268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C/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3886200"/>
            <a:ext cx="533520" cy="457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S/S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2514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4,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514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4,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00600" y="2514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3,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72200" y="25146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3,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810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5,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5,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0060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4,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72200" y="33526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4,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81080" y="38862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8,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52680" y="38862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8,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00600" y="38862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7,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388620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7,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4724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11,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4724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10,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4724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10,0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4724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9,5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791320" y="50760"/>
          <a:ext cx="2133360" cy="89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50760"/>
                    <a:ext cx="213336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8077320" y="1066680"/>
            <a:ext cx="167616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Explanation “Stretch go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Determination of budget and stretch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Current</a:t>
            </a:r>
            <a:br>
              <a:rPr sz="1800"/>
            </a:b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turn rat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Gener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Failur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Return Rate Targets - CCQ QM PL P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38670-AF4B-4C20-8CFD-9CAC44F64D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eneral condi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00748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marL="2858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st-benefit ratio needs to be evaluated regularly (yearl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dget target needs to be updated year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A team goal needs to be updated with begin of REA phase (milestone M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9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buClr>
                <a:srgbClr val="003399"/>
              </a:buClr>
              <a:buFont typeface="Wingdings" charset="2"/>
              <a:buChar char="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als need to be agreed with segments (PLM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5791320" y="50760"/>
          <a:ext cx="2133360" cy="898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50760"/>
                    <a:ext cx="213336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8077320" y="1066680"/>
            <a:ext cx="167616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Explanation “Stretch go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Determination of budget and stretch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Current</a:t>
            </a:r>
            <a:br>
              <a:rPr sz="1800"/>
            </a:b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ner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Failur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Return Rate Targets - CCQ QM PL P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6EED7-FF33-4634-A57D-B45F3D223B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007480" cy="9907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rther Information: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ilure types in return ra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80960" y="19051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8520" y="5791320"/>
            <a:ext cx="743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24040" y="5410080"/>
            <a:ext cx="304560" cy="381240"/>
          </a:xfrm>
          <a:prstGeom prst="cube">
            <a:avLst>
              <a:gd name="adj" fmla="val 25000"/>
            </a:avLst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66840" y="4952880"/>
            <a:ext cx="13208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MTBF*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35040" y="4927680"/>
            <a:ext cx="279360" cy="558720"/>
          </a:xfrm>
          <a:prstGeom prst="cube">
            <a:avLst>
              <a:gd name="adj" fmla="val 25000"/>
            </a:avLst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28600" y="4359240"/>
            <a:ext cx="12956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Design /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onceptual fail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71600" y="4444920"/>
            <a:ext cx="279360" cy="558720"/>
          </a:xfrm>
          <a:prstGeom prst="cube">
            <a:avLst>
              <a:gd name="adj" fmla="val 25000"/>
            </a:avLst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60560" y="3962520"/>
            <a:ext cx="10731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SW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fail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33720" y="3949560"/>
            <a:ext cx="285840" cy="559080"/>
          </a:xfrm>
          <a:prstGeom prst="cube">
            <a:avLst>
              <a:gd name="adj" fmla="val 25000"/>
            </a:avLst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22680" y="3505320"/>
            <a:ext cx="10731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Supplier fail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93960" y="3695760"/>
            <a:ext cx="273240" cy="330120"/>
          </a:xfrm>
          <a:prstGeom prst="cube">
            <a:avLst>
              <a:gd name="adj" fmla="val 25000"/>
            </a:avLst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36760" y="3170160"/>
            <a:ext cx="13208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Production fail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18200" y="3048120"/>
            <a:ext cx="280800" cy="228600"/>
          </a:xfrm>
          <a:prstGeom prst="cube">
            <a:avLst>
              <a:gd name="adj" fmla="val 25000"/>
            </a:avLst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49760" y="2057400"/>
            <a:ext cx="13208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48520" y="2286000"/>
            <a:ext cx="304920" cy="3502080"/>
          </a:xfrm>
          <a:prstGeom prst="cube">
            <a:avLst>
              <a:gd name="adj" fmla="val 25000"/>
            </a:avLst>
          </a:prstGeom>
          <a:solidFill>
            <a:srgbClr val="ff8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54680" y="1828800"/>
            <a:ext cx="115596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Return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976320" y="2742840"/>
            <a:ext cx="68580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47720" y="1600200"/>
            <a:ext cx="2311560" cy="1020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Only MTBF* failures can be calculated based on physical regula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6019920"/>
            <a:ext cx="304812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* MTBF = Mean Time Between Failure</a:t>
            </a:r>
            <a:br>
              <a:rPr sz="1200"/>
            </a:br>
            <a:r>
              <a:rPr b="0" lang="en-GB" sz="1200" spc="-1" strike="noStrike">
                <a:solidFill>
                  <a:srgbClr val="002b5d"/>
                </a:solidFill>
                <a:latin typeface="Arial"/>
              </a:rPr>
              <a:t>Only Possible for standard com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06960" y="2286000"/>
            <a:ext cx="235080" cy="820800"/>
          </a:xfrm>
          <a:prstGeom prst="cube">
            <a:avLst>
              <a:gd name="adj" fmla="val 25000"/>
            </a:avLst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61000" y="2271600"/>
            <a:ext cx="132084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Other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failures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(e.g.</a:t>
            </a:r>
            <a:br>
              <a:rPr sz="1200"/>
            </a:b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net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75160" y="3200400"/>
            <a:ext cx="285840" cy="558720"/>
          </a:xfrm>
          <a:prstGeom prst="cube">
            <a:avLst>
              <a:gd name="adj" fmla="val 25000"/>
            </a:avLst>
          </a:prstGeom>
          <a:solidFill>
            <a:srgbClr val="bad1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94280" y="2606760"/>
            <a:ext cx="107316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2b5d"/>
                </a:solidFill>
                <a:latin typeface="Arial"/>
              </a:rPr>
              <a:t>Customer caused dismi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72200" y="2349360"/>
            <a:ext cx="971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rot="16200000">
            <a:off x="-806040" y="2331720"/>
            <a:ext cx="23605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b5d"/>
                </a:solidFill>
                <a:latin typeface="Arial"/>
              </a:rPr>
              <a:t>Return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52640" y="5486400"/>
            <a:ext cx="539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38440" y="5003640"/>
            <a:ext cx="539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00200" y="4508640"/>
            <a:ext cx="540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9720" y="4025880"/>
            <a:ext cx="457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97360" y="3759120"/>
            <a:ext cx="539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03760" y="3276720"/>
            <a:ext cx="539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46800" y="3111480"/>
            <a:ext cx="576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791320" y="65160"/>
          <a:ext cx="2133360" cy="9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1320" y="65160"/>
                    <a:ext cx="2133360" cy="9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8077320" y="1066680"/>
            <a:ext cx="1676160" cy="53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Explanation “Stretch go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Determination of budget and stretch 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Current</a:t>
            </a:r>
            <a:br>
              <a:rPr sz="1800"/>
            </a:b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Return rate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General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ailur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99cc"/>
                </a:solidFill>
                <a:latin typeface="Arial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New Return Rate Targets - CCQ QM PL P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0099F-00C9-411E-8E53-C1157BA664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2819160"/>
            <a:ext cx="61084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3:44:08Z</dcterms:created>
  <dc:creator/>
  <dc:description/>
  <dc:language>en-US</dc:language>
  <cp:lastModifiedBy>License Owner</cp:lastModifiedBy>
  <cp:lastPrinted>2001-11-15T10:48:33Z</cp:lastPrinted>
  <dcterms:modified xsi:type="dcterms:W3CDTF">2004-02-13T09:30:26Z</dcterms:modified>
  <cp:revision>414</cp:revision>
  <dc:subject/>
  <dc:title>start slide:  headline arial bold 38 pt, 0 pt leading</dc:title>
</cp:coreProperties>
</file>